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FEF-D986-49DE-8D41-BBD75818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BDB-1408-44F7-96D6-99A8757C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21B-2C7C-42BC-A94D-703C5E3B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D51-51CD-40CD-8D24-F2518CF2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682-EF86-4B50-8B03-F7061AA6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CD2-133C-4618-BC03-71F5945E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CFE-00AD-45E3-A65F-83A01EFA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750-3C5A-4045-A147-7894FEF9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25C-4DDB-4966-9BBC-87A40CAB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E4A-20BF-415B-B161-79EBEECE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F43-24B7-4DD1-A93C-5F6113EF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8A6-D73A-4324-A999-AF20DD07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C491-FAB2-425E-A14A-47BE2A985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81480" y="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Distance vs 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oyote" descr=""/>
          <p:cNvPicPr/>
          <p:nvPr/>
        </p:nvPicPr>
        <p:blipFill>
          <a:blip r:embed="rId1"/>
          <a:stretch/>
        </p:blipFill>
        <p:spPr>
          <a:xfrm>
            <a:off x="304920" y="0"/>
            <a:ext cx="1492200" cy="1773360"/>
          </a:xfrm>
          <a:prstGeom prst="rect">
            <a:avLst/>
          </a:prstGeom>
          <a:ln w="0">
            <a:noFill/>
          </a:ln>
        </p:spPr>
      </p:pic>
      <p:pic>
        <p:nvPicPr>
          <p:cNvPr id="43" name="RRunner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1498320" cy="1595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57400" y="990720"/>
            <a:ext cx="4495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53080" y="1143000"/>
            <a:ext cx="0" cy="2666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80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meters east in 2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1828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eters south in 1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905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5053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o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traveled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114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o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4114800"/>
            <a:ext cx="22860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5029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/ t =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715000"/>
            <a:ext cx="259056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/ t =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5791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5791320"/>
            <a:ext cx="22860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Vector mathematics is different than scalar mathe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981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e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must be drawn to scale and connected head-to-tail. They add up t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ul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0666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al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an be added with regular math.  They add up t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352680"/>
            <a:ext cx="175284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</a:rPr>
              <a:t>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334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4572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362320" y="53337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533412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962520" y="4647960"/>
            <a:ext cx="3808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81120" y="45720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143000" y="480060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Coyote" descr=""/>
          <p:cNvPicPr/>
          <p:nvPr/>
        </p:nvPicPr>
        <p:blipFill>
          <a:blip r:embed="rId1"/>
          <a:stretch/>
        </p:blipFill>
        <p:spPr>
          <a:xfrm>
            <a:off x="1371600" y="4114800"/>
            <a:ext cx="914400" cy="1087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07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Runner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87360" cy="1368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19320" y="5335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33520"/>
            <a:ext cx="15242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142640" y="609120"/>
            <a:ext cx="42670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1295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Marvin" descr=""/>
          <p:cNvPicPr/>
          <p:nvPr/>
        </p:nvPicPr>
        <p:blipFill>
          <a:blip r:embed="rId2"/>
          <a:stretch/>
        </p:blipFill>
        <p:spPr>
          <a:xfrm>
            <a:off x="5486400" y="1676520"/>
            <a:ext cx="1208160" cy="1417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22860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d runner travels 5 miles before Marvin sends him back.  Road runner takes a shortcut back that saves him a m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38862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whole round trip took 1 hour,  what is roadrunner’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speed?                             b) displacement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304920"/>
            <a:ext cx="7162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A runner  runs 500 meters due east and 1000 meters due south. Find the distance and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04812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 plane travels 3000 miles from California to New York in  5 hours, stays in NY 1 hour to refuel, then flies back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average speed and average velocity for the round trip fligh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0"/>
            <a:ext cx="830592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irection chang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erage velocity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average 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10666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905120"/>
            <a:ext cx="8610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;  Wilbert drives 2.0 km east in 15 minutes to make a delivery.  He then goes 3.0 km west in 20 minutes to make a delivery to the other side of t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Wilber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average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average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his 35 minutes of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5037_" descr=""/>
          <p:cNvPicPr/>
          <p:nvPr/>
        </p:nvPicPr>
        <p:blipFill>
          <a:blip r:embed="rId1"/>
          <a:stretch/>
        </p:blipFill>
        <p:spPr>
          <a:xfrm>
            <a:off x="8051760" y="5410080"/>
            <a:ext cx="844560" cy="1193760"/>
          </a:xfrm>
          <a:prstGeom prst="rect">
            <a:avLst/>
          </a:prstGeom>
          <a:ln w="0">
            <a:noFill/>
          </a:ln>
        </p:spPr>
      </p:pic>
      <p:pic>
        <p:nvPicPr>
          <p:cNvPr id="90" name="bd00051_" descr=""/>
          <p:cNvPicPr/>
          <p:nvPr/>
        </p:nvPicPr>
        <p:blipFill>
          <a:blip r:embed="rId2"/>
          <a:stretch/>
        </p:blipFill>
        <p:spPr>
          <a:xfrm>
            <a:off x="609480" y="5168880"/>
            <a:ext cx="14479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d00051_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447920" cy="1405080"/>
          </a:xfrm>
          <a:prstGeom prst="rect">
            <a:avLst/>
          </a:prstGeom>
          <a:ln w="0">
            <a:noFill/>
          </a:ln>
        </p:spPr>
      </p:pic>
      <p:pic>
        <p:nvPicPr>
          <p:cNvPr id="92" name="bd05037_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8445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12:36:56Z</dcterms:created>
  <dc:creator>mfrancesco</dc:creator>
  <dc:description/>
  <dc:language>en-US</dc:language>
  <cp:lastModifiedBy>socsd</cp:lastModifiedBy>
  <dcterms:modified xsi:type="dcterms:W3CDTF">2005-09-20T13:47:11Z</dcterms:modified>
  <cp:revision>5</cp:revision>
  <dc:subject/>
  <dc:title>PowerPoint Presentation</dc:title>
</cp:coreProperties>
</file>